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A52-29B5-4A89-8F8D-89A5F39C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C2C-7A38-4CA8-83A1-FB3003D1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1A8-025A-41F4-86D7-05212461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1EF-647D-468F-892C-606164A3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812-4F83-4623-B5BC-1C84995F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A2A-2DA9-4878-87AF-58959E3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A5AB-A035-4B18-A246-39CCEC0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0AF-2498-40B8-9725-02AEC897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E16-A1A0-47B2-8519-960004AA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DAAB-436B-4972-91AD-20707E09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55C-6AD5-45C5-A493-4AD52DD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B57-A5AB-4F56-860A-D78D6EAE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DBB-0790-4763-8212-8A762BE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C4F3-FD51-4318-AC0C-988CE18D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7DE7-388A-459E-BEF6-D179A5B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8E6-8AFE-4CA2-98A5-FE5178D8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30DA-A0C1-4E99-B241-F2B7ED09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E5E-8411-4A11-A90C-2D813AB0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86C-309C-413F-89BD-A90DC19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107-19D2-43D1-B3E5-BCA2174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FC5-1D7E-411A-8F34-6757642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A0A-22FF-4F85-B0BA-27EB9F6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FAC-0159-43F6-960F-66F7C9A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FE6-B971-4502-BA8C-5F09888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39E-0E48-4EAB-BE65-442E41588FD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DED-C1FB-4618-8EF3-EC53B8FF31A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57720" y="1356840"/>
            <a:ext cx="527184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орема Пифаго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 её доказа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4714920" y="578628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от имени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студент 142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айкин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1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9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evklid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algebra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geometria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2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2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92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54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604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944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36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156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3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9" descr="evklid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evklid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Лёха</cp:lastModifiedBy>
  <dcterms:modified xsi:type="dcterms:W3CDTF">2010-06-06T16:49:04Z</dcterms:modified>
  <cp:revision>72</cp:revision>
  <dc:subject/>
  <dc:title>Теорема Пифагора</dc:title>
</cp:coreProperties>
</file>